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FFA7-CC1E-4B49-8F41-3CC0DE29A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67B5-4FD6-4BA3-A8C6-5734613A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300-9F1B-4C07-B89E-3D662168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EBB-45AB-4600-845C-B790B61C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A6B-71DD-49A0-89B7-0A49A81F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037-CE6A-4D0E-940F-25857E5B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C51-EB24-4711-ABF9-EB8913C1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754-6A42-4594-9F4E-0B82BBEC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8BD-1518-4BAE-BDCD-6F9321C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08E-F38B-4C27-AB8D-D3F716CB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870-291A-4EA1-801A-56550CBC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D5D-F7A9-4CE6-8B87-E92C2ED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F81-DFEA-4817-8D35-696B655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BD6-E691-41A6-ACE5-8BD73C2D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64C-B0AE-466D-BA8C-DAAFDD36A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ncurringopinions.com/archives/images/constitution5.jpg&amp;imgrefurl=http://www.concurringopinions.com/archives/constitutional_law/&amp;h=283&amp;w=300&amp;sz=249&amp;hl=en&amp;start=106&amp;um=1&amp;usg=__FJ031zp1WjqecSvG-0SezS00F-U=&amp;tbnid=QfNshgVqIY4IkM:&amp;tbnh=109&amp;tbnw=116&amp;prev=/images%3Fq%3Divory%2Bcoast%2Bconstitution%26start%3D90%26ndsp%3D18%26um%3D1%26hl%3Den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ory Co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deline Lu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bb4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Lo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Ivory Coast is located in West A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It is surrounded by Mali, Burkina Faso, Ghana, Liberia, and Gui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Also called Cote d'Ivo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Go to fullsize image"/>
          <p:cNvPicPr/>
          <p:nvPr/>
        </p:nvPicPr>
        <p:blipFill>
          <a:blip r:embed="rId1"/>
          <a:stretch/>
        </p:blipFill>
        <p:spPr>
          <a:xfrm>
            <a:off x="5410080" y="1981080"/>
            <a:ext cx="2506680" cy="2847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vory Coast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0338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637, missionaries landed at Assignee near the Gold Co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ory Coast became independent on August 7, 19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november 3, 1960, Ivory Coast adopts constit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2486160" cy="401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important that missionaries landed in Ivory Coast because if they didn’t Ivory coast would not have been disco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vory Coast did not become independent then the French would still have control over th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vory Coast adopted a constitution it had all the countries rules so it would be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constitution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86000"/>
            <a:ext cx="1752480" cy="2362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3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October 31, 1960, the National Assembly of Ivory Coast adopted the Constitution establishing an independent republ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88 governance in Ivory Coast remained the province of one man: President Félix Houphouët-Boigny, affectionately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 vie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e old m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felix"/>
          <p:cNvPicPr/>
          <p:nvPr/>
        </p:nvPicPr>
        <p:blipFill>
          <a:blip r:embed="rId1"/>
          <a:stretch/>
        </p:blipFill>
        <p:spPr>
          <a:xfrm>
            <a:off x="5943600" y="1905120"/>
            <a:ext cx="1889280" cy="2319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4958280" y="441972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Félix Houphouët-Boig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020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s and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nsportation Equi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co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opical W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role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neap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m O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1374480" cy="1373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16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week long carnival in Bouaké each M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Ivory Coast’s most famous festivals is the Fêtes des Masques (Festival of Masks) in Nov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jor Muslim holiday is Ramadan where every one fast between sun-up and sun-down. (Near Dece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cer is also a very popular sport in Ivory Co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Go to fullsize image"/>
          <p:cNvPicPr/>
          <p:nvPr/>
        </p:nvPicPr>
        <p:blipFill>
          <a:blip r:embed="rId1"/>
          <a:stretch/>
        </p:blipFill>
        <p:spPr>
          <a:xfrm>
            <a:off x="5638680" y="1752480"/>
            <a:ext cx="1524240" cy="1146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5562720" y="2971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stival of M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Chelsea forward Salomon Kalou of the Ivory Coast, left, controls..."/>
          <p:cNvPicPr/>
          <p:nvPr/>
        </p:nvPicPr>
        <p:blipFill>
          <a:blip r:embed="rId2"/>
          <a:stretch/>
        </p:blipFill>
        <p:spPr>
          <a:xfrm>
            <a:off x="5638680" y="3733920"/>
            <a:ext cx="1524240" cy="1231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5562720" y="45720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638680" y="50292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vory Coast soc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b68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happen in Ivory Co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uture of Ivory Coast is unpredictable. But there one of the many outcome could be that since there is a recent unstable government that it will become more s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2620800" cy="2485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571500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ng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05:12Z</dcterms:created>
  <dc:creator>madelinelutz</dc:creator>
  <dc:description/>
  <dc:language>en-US</dc:language>
  <cp:lastModifiedBy>owner</cp:lastModifiedBy>
  <dcterms:modified xsi:type="dcterms:W3CDTF">2008-11-12T01:08:38Z</dcterms:modified>
  <cp:revision>22</cp:revision>
  <dc:subject/>
  <dc:title>Ivory Coast</dc:title>
</cp:coreProperties>
</file>